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13.wmf" ContentType="image/x-wmf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19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36720" y="441972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5B095F-B7B1-4319-824B-B2DBD7850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87F171-BAD5-4494-9894-9534ACDB0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6720" y="441972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us creating an engaged workforce and letting you pursue what’s really impor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3B33D5-E7F5-4713-AF43-B1CC9F70C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6720" y="441972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omething that the customer is willing to pay for…if they knew you did 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removed a process step, and it had a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negati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impact on what the customer cares about, the step is considered to be 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Arial"/>
              </a:rPr>
              <a:t>“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Arial"/>
              </a:rPr>
              <a:t>value-added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Arial"/>
              </a:rPr>
              <a:t>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A561E3-30EA-4449-BFFD-8A11AAE05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6720" y="441972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ained, socialized, encouraged, and rewarded to improve the 10% value added part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 not focus on the 90% - in fact, we often cannot “see”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ained to focus on our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job descriptions and accountabilities – we work in “sil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people are trained or accountable to look at what happen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silos – and at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verall end-to-end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nature and busy lives:  accept and adapt to “that’s how it 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FEB9DA-4CF7-434F-9376-2DF2135DD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6720" y="441972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76D6-2F97-4DCB-B9A8-E8481ACC8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BBB2-E55F-4B05-8D64-F0FC98A63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724B-80E5-4808-BAE6-B526B5BA7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6BB5-F2BE-4E9C-A6AA-B89841A0A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EA70-5C7D-4411-B2A3-9A7792C9D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2BB8-3C8A-4C26-BB91-27BE7669F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9E90-C892-4C95-AE7B-810E7E922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7440-3E15-4626-9E9E-2A727C319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3E5E-C1A9-4127-B19A-A0FA18268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4757-46E1-4B22-A944-2DDEB27F6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DF59-9869-4A32-83B6-719CB29CF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FC87-2802-4464-A6E6-793740F99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961D-82DF-4F09-90F7-EA07539F815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IRB-Cover-ppt"/>
          <p:cNvPicPr/>
          <p:nvPr/>
        </p:nvPicPr>
        <p:blipFill>
          <a:blip r:embed="rId2"/>
          <a:stretch/>
        </p:blipFill>
        <p:spPr>
          <a:xfrm>
            <a:off x="0" y="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19280" y="2590560"/>
            <a:ext cx="5905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ocess Improvement (BPI) Initi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50288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9C79-A3EA-4A6E-A4B2-41D2967074D6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1267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How is BPI different than past improvement effor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8920" y="2060280"/>
            <a:ext cx="739152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he people who know the work best (regional resources) will map the process, find and test the solu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pproach is practical – not an abstract exercise.  Piloting – “Road Testing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rocess changes must be proven before being implemented:  “show me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Not beginning with a pre-ordained solution – let the data drive the decision-ma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ttainable within the time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ractical, minimal IT i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7B47-3170-4F30-ADE1-D086F9642C73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0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PI in Six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D3F4-9F1D-47EA-90A4-32395BB758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Diagram 6" descr=""/>
          <p:cNvPicPr/>
          <p:nvPr/>
        </p:nvPicPr>
        <p:blipFill>
          <a:blip r:embed="rId1"/>
          <a:stretch/>
        </p:blipFill>
        <p:spPr>
          <a:xfrm>
            <a:off x="414360" y="1200240"/>
            <a:ext cx="8101080" cy="4840200"/>
          </a:xfrm>
          <a:prstGeom prst="rect">
            <a:avLst/>
          </a:prstGeom>
          <a:ln w="0">
            <a:noFill/>
          </a:ln>
        </p:spPr>
      </p:pic>
      <p:sp>
        <p:nvSpPr>
          <p:cNvPr id="136" name="Line 7"/>
          <p:cNvSpPr/>
          <p:nvPr/>
        </p:nvSpPr>
        <p:spPr>
          <a:xfrm>
            <a:off x="7956720" y="4076640"/>
            <a:ext cx="0" cy="8650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 flipH="1">
            <a:off x="3635280" y="4941720"/>
            <a:ext cx="43214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 flipV="1">
            <a:off x="3635280" y="4076280"/>
            <a:ext cx="0" cy="8650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123800" y="503244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-Measure and 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1763640" y="263700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Current State” 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4572000" y="263700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Future State” 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A2FC-5430-4B99-AA28-9A243E0F98ED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87280" y="242064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a high lev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thing that contributes directly to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i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al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going effort to defin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 Define “Valu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9312-EE4C-461E-85FB-925CB8EA30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customer needs.jpg"/>
          <p:cNvPicPr/>
          <p:nvPr/>
        </p:nvPicPr>
        <p:blipFill>
          <a:blip r:embed="rId1"/>
          <a:stretch/>
        </p:blipFill>
        <p:spPr>
          <a:xfrm>
            <a:off x="6084720" y="4365720"/>
            <a:ext cx="279108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AF30-1836-44A2-A811-E36836A2F43D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19890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sically walk the end-to-end Toronto Registry, ID pro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all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 them on a m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isting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 Walk and Map Current Proces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DC74-E7EB-406B-B360-9B22AFC36B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sample vsm 3.jpg"/>
          <p:cNvPicPr/>
          <p:nvPr/>
        </p:nvPicPr>
        <p:blipFill>
          <a:blip r:embed="rId1"/>
          <a:stretch/>
        </p:blipFill>
        <p:spPr>
          <a:xfrm>
            <a:off x="4643280" y="3284640"/>
            <a:ext cx="4131000" cy="293832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F6F2-4B22-468C-A14D-67F30F5ED35F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cess step define the typic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 Walk and Map Current Proces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DA2A-6E17-4D82-A7C6-C26AD05CC0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476640" y="6093000"/>
            <a:ext cx="77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will create data-driven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9"/>
          <p:cNvGraphicFramePr/>
          <p:nvPr/>
        </p:nvGraphicFramePr>
        <p:xfrm>
          <a:off x="539640" y="3141720"/>
          <a:ext cx="792000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141720"/>
                    <a:ext cx="79200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91B3-40CF-47D4-8FCA-88CEE6E8391F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10920" y="1989000"/>
            <a:ext cx="7391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 a detailed “spaghetti diagram” of the physical movement of the file and handoffs – to identify barriers to fl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ctual floor m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 Walk and Map Current Proces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A9D9-195F-4906-AC7D-87B910DF68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ample spaghetti diagram.jpg"/>
          <p:cNvPicPr/>
          <p:nvPr/>
        </p:nvPicPr>
        <p:blipFill>
          <a:blip r:embed="rId1"/>
          <a:stretch/>
        </p:blipFill>
        <p:spPr>
          <a:xfrm>
            <a:off x="5148360" y="3645000"/>
            <a:ext cx="3671640" cy="25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3553-5777-43CD-AFAA-D4FB239214DD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24922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process steps add direct value to the end result of a fair, efficient “Quality Decision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do n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are the bottleneck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 Identify Value vs. Opportunity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9BD0-27DF-4051-B227-C037AFFD8B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opportunity 2.jpg"/>
          <p:cNvPicPr/>
          <p:nvPr/>
        </p:nvPicPr>
        <p:blipFill>
          <a:blip r:embed="rId1"/>
          <a:stretch/>
        </p:blipFill>
        <p:spPr>
          <a:xfrm>
            <a:off x="6300720" y="3789360"/>
            <a:ext cx="24670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560C-EBBF-4CA0-A2B3-3B8427B24712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55640" y="191592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are the opportunities for improvement in term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 Identify Value vs. Opportunity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83F3-230C-4A77-91A0-918B37B3FB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Chart 5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6985080" cy="3456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1476360" y="5877000"/>
            <a:ext cx="21600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476360" y="6237360"/>
            <a:ext cx="216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766520" y="5805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1766160" y="61657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8231-68E7-48B8-BD81-E4D18A0C9214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ate a prioritized improvement plan that will meet IRB Reform cycle time require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rioritize &amp; Plan Opportuniti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7310-7773-4FFC-BB64-6DCF782918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0" y="75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403280" y="2707920"/>
            <a:ext cx="5600880" cy="4000680"/>
            <a:chOff x="1403280" y="2707920"/>
            <a:chExt cx="5600880" cy="4000680"/>
          </a:xfrm>
        </p:grpSpPr>
        <p:sp>
          <p:nvSpPr>
            <p:cNvPr id="184" name="AutoShape 10"/>
            <p:cNvSpPr/>
            <p:nvPr/>
          </p:nvSpPr>
          <p:spPr>
            <a:xfrm>
              <a:off x="1404000" y="2708280"/>
              <a:ext cx="5599800" cy="40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Text Box 9" descr=""/>
            <p:cNvPicPr/>
            <p:nvPr/>
          </p:nvPicPr>
          <p:blipFill>
            <a:blip r:embed="rId1"/>
            <a:stretch/>
          </p:blipFill>
          <p:spPr>
            <a:xfrm>
              <a:off x="1403280" y="2895840"/>
              <a:ext cx="7984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8"/>
            <p:cNvSpPr/>
            <p:nvPr/>
          </p:nvSpPr>
          <p:spPr>
            <a:xfrm>
              <a:off x="2034000" y="6044400"/>
              <a:ext cx="4970160" cy="66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Eas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Difficul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Ease of implemen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199240" y="2707920"/>
              <a:ext cx="720" cy="3229200"/>
              <a:chOff x="2199240" y="2707920"/>
              <a:chExt cx="720" cy="3229200"/>
            </a:xfrm>
          </p:grpSpPr>
          <p:cxnSp>
            <p:nvCxnSpPr>
              <p:cNvPr id="188" name="AutoShape 7"/>
              <p:cNvCxnSpPr/>
              <p:nvPr/>
            </p:nvCxnSpPr>
            <p:spPr>
              <a:xfrm>
                <a:off x="2199240" y="2707920"/>
                <a:ext cx="1080" cy="32295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</p:cxnSp>
          <p:sp>
            <p:nvSpPr>
              <p:cNvPr id="189" name=""/>
              <p:cNvSpPr txBox="1"/>
              <p:nvPr/>
            </p:nvSpPr>
            <p:spPr>
              <a:xfrm>
                <a:off x="2199240" y="2707920"/>
                <a:ext cx="360" cy="322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199600" y="5936760"/>
              <a:ext cx="4452840" cy="720"/>
              <a:chOff x="2199600" y="5936760"/>
              <a:chExt cx="4452840" cy="720"/>
            </a:xfrm>
          </p:grpSpPr>
          <p:cxnSp>
            <p:nvCxnSpPr>
              <p:cNvPr id="191" name="AutoShape 6"/>
              <p:cNvCxnSpPr/>
              <p:nvPr/>
            </p:nvCxnSpPr>
            <p:spPr>
              <a:xfrm>
                <a:off x="2199600" y="5936760"/>
                <a:ext cx="44532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92" name=""/>
              <p:cNvSpPr txBox="1"/>
              <p:nvPr/>
            </p:nvSpPr>
            <p:spPr>
              <a:xfrm>
                <a:off x="2199600" y="5936760"/>
                <a:ext cx="4452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Text Box 5"/>
            <p:cNvSpPr/>
            <p:nvPr/>
          </p:nvSpPr>
          <p:spPr>
            <a:xfrm>
              <a:off x="2484000" y="2991600"/>
              <a:ext cx="1995480" cy="10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0000"/>
                  </a:solidFill>
                  <a:latin typeface="Arial Black"/>
                  <a:ea typeface="Calibri"/>
                </a:rPr>
                <a:t>G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Implement now – high prior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>
              <a:off x="4547880" y="3052440"/>
              <a:ext cx="1995480" cy="10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bacc6"/>
                  </a:solidFill>
                  <a:latin typeface="Arial Black"/>
                  <a:ea typeface="Calibri"/>
                </a:rPr>
                <a:t>Longer Ter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Start planning no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"/>
            <p:cNvSpPr/>
            <p:nvPr/>
          </p:nvSpPr>
          <p:spPr>
            <a:xfrm>
              <a:off x="2484000" y="4643280"/>
              <a:ext cx="1995480" cy="10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b050"/>
                  </a:solidFill>
                  <a:latin typeface="Arial Black"/>
                  <a:ea typeface="Calibri"/>
                </a:rPr>
                <a:t>Easy Pick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Implement seco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"/>
            <p:cNvSpPr/>
            <p:nvPr/>
          </p:nvSpPr>
          <p:spPr>
            <a:xfrm>
              <a:off x="4479480" y="4582440"/>
              <a:ext cx="1994040" cy="10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Do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Don’t bother…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1DD2-0121-496F-A80A-AEE5F8ADFC3B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10920" y="1989000"/>
            <a:ext cx="7391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teams for each maj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ies,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rom BPI resources and IRB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  Implement Opport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96DD-56C8-485C-9F93-3BCFC3CCEA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implement.bmp"/>
          <p:cNvPicPr/>
          <p:nvPr/>
        </p:nvPicPr>
        <p:blipFill>
          <a:blip r:embed="rId1"/>
          <a:stretch/>
        </p:blipFill>
        <p:spPr>
          <a:xfrm>
            <a:off x="6372360" y="4508640"/>
            <a:ext cx="251460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D1E4-176D-4A96-A0A2-9AF23ADFE0C9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mprovement arrow up.jpg"/>
          <p:cNvPicPr/>
          <p:nvPr/>
        </p:nvPicPr>
        <p:blipFill>
          <a:blip r:embed="rId1"/>
          <a:stretch/>
        </p:blipFill>
        <p:spPr>
          <a:xfrm>
            <a:off x="5867280" y="5084640"/>
            <a:ext cx="2449800" cy="1540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00000" y="206028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76"/>
              </a:spcBef>
              <a:buClr>
                <a:srgbClr val="63a6b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st efficie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i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tribunal in the worl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63a6b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Legitimate claimants are spared uneeded waiting and uncertaint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63a6b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RB is able t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a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current timelines – without anyone working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hard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than toda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63a6b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ersonnel experience less frustration and have greater intrinsic satisfac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63a6b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ecision-makers have everything they require to make highest-quality, most efficient, fair decisio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on’t believe i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24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Possibl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083F-7AE7-48D6-8FE5-289073A71E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2275-E8E7-4445-ACF0-04E265E292E1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9640" y="242064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of solutions is critica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y work in re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mpact of each improvement on total IRB refugee-determination cycle time so progress toward meeting legislated timelines can be moni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  Test and  Measure Sol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64DB-35A1-4BC5-B52B-3BE2C4BD32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test pilot.jpg"/>
          <p:cNvPicPr/>
          <p:nvPr/>
        </p:nvPicPr>
        <p:blipFill>
          <a:blip r:embed="rId1"/>
          <a:stretch/>
        </p:blipFill>
        <p:spPr>
          <a:xfrm>
            <a:off x="6315120" y="1197000"/>
            <a:ext cx="28288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69C1-A480-44F4-83E5-607537BD145E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5280" y="22050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- and fact-driven decisions promote “fair process” – major change ass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designing processes to work smarter – nobody should have to work ha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n attempt to eliminate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ment of front line staff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roll them in BPI rollo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Advantages to BPI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AEEC-7E01-4359-9C9A-92D9D09D49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fair process.jpg"/>
          <p:cNvPicPr/>
          <p:nvPr/>
        </p:nvPicPr>
        <p:blipFill>
          <a:blip r:embed="rId1"/>
          <a:stretch/>
        </p:blipFill>
        <p:spPr>
          <a:xfrm>
            <a:off x="5651640" y="3645000"/>
            <a:ext cx="244944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F97F-29CC-409A-967C-880912A9B030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Content Placeholder 4" descr="questions.jpg"/>
          <p:cNvPicPr/>
          <p:nvPr/>
        </p:nvPicPr>
        <p:blipFill>
          <a:blip r:embed="rId1"/>
          <a:stretch/>
        </p:blipFill>
        <p:spPr>
          <a:xfrm>
            <a:off x="3564000" y="3068640"/>
            <a:ext cx="1923840" cy="18050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7D26-E012-4B4D-B69D-DACE4BE7EA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C76F-C534-4183-ABC0-218320B4F47A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A grassroots, practical way to increas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speed, efficiency and quality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cusing o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val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add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ing process steps that do not ad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ing waiting, delays, rework, excess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moving barriers to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4D04-D56E-4AF1-927C-C381F54385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BP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what is bpi  2.jpg"/>
          <p:cNvPicPr/>
          <p:nvPr/>
        </p:nvPicPr>
        <p:blipFill>
          <a:blip r:embed="rId1"/>
          <a:stretch/>
        </p:blipFill>
        <p:spPr>
          <a:xfrm>
            <a:off x="6877080" y="2276640"/>
            <a:ext cx="1582560" cy="11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C499-1951-41B4-8731-267DF86F9180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360" y="2060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at matt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the da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“why are we here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t IRB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-Fair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-Quality decis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-Efficien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6B73-9E77-42FE-86D9-33A3FF5AE6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2682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al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value added.jpg"/>
          <p:cNvPicPr/>
          <p:nvPr/>
        </p:nvPicPr>
        <p:blipFill>
          <a:blip r:embed="rId1"/>
          <a:stretch/>
        </p:blipFill>
        <p:spPr>
          <a:xfrm>
            <a:off x="6877080" y="1413000"/>
            <a:ext cx="1619280" cy="16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89C4-B89B-48EB-88E4-5358A7ABBE1B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” use in a Typical Organization</a:t>
            </a:r>
            <a:r>
              <a:rPr b="1" lang="en-GB" sz="1600" spc="-1" strike="noStrike" baseline="74000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84360" y="4941720"/>
            <a:ext cx="746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rovement Opportun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y activity that consumes resources but does not contribute to “valu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value-added time in most organizations is approx.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class: typically 20-25% value add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050920" y="1844640"/>
            <a:ext cx="1871640" cy="503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050920" y="2421000"/>
            <a:ext cx="1871640" cy="25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4262760" y="1916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0% value adde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4223520" y="350028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90%: impr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302160" y="4437000"/>
            <a:ext cx="2683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baseline="5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Carter, Willie L.  </a:t>
            </a:r>
            <a:r>
              <a:rPr b="0" i="1" lang="en-CA" sz="900" spc="-1" strike="noStrike">
                <a:solidFill>
                  <a:srgbClr val="000000"/>
                </a:solidFill>
                <a:latin typeface="Arial"/>
              </a:rPr>
              <a:t>Quality Digest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. June 23, 201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6224-7EB0-4700-95EC-E086B3CE5C08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633B-E96D-4464-932A-C1451CAAC5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the 90% Opportuniti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Chart 4"/>
          <p:cNvGraphicFramePr/>
          <p:nvPr/>
        </p:nvGraphicFramePr>
        <p:xfrm>
          <a:off x="822240" y="1706400"/>
          <a:ext cx="669132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706400"/>
                    <a:ext cx="669132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620A-9084-492E-BACC-D65F90B43DAD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16000" y="213336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the velocity of high-quality work through the end to end system by elimina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iers to 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D1A9-95DD-416F-987C-34DD1DD6C5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411120"/>
            <a:ext cx="12099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211640" y="4797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Big-Open highway.jpg"/>
          <p:cNvPicPr/>
          <p:nvPr/>
        </p:nvPicPr>
        <p:blipFill>
          <a:blip r:embed="rId1"/>
          <a:stretch/>
        </p:blipFill>
        <p:spPr>
          <a:xfrm>
            <a:off x="5219640" y="4221000"/>
            <a:ext cx="3203640" cy="212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china-traffic-jam.jpg"/>
          <p:cNvPicPr/>
          <p:nvPr/>
        </p:nvPicPr>
        <p:blipFill>
          <a:blip r:embed="rId2"/>
          <a:stretch/>
        </p:blipFill>
        <p:spPr>
          <a:xfrm>
            <a:off x="826920" y="4221000"/>
            <a:ext cx="325296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A2C4-F124-4886-B659-2143243598DD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2571840" y="192888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2216-0E43-4161-8424-D3A77BFB29E9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good start alrea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form groups addressed discrete process ste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PI sessions were held in Toronto, Montreal and Vancouver These session addr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76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the space between the discrete tasks - where much of the 90% opportunity exis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76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The collection and use of measures to identify and validate opportun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PI sessions were conducted with support serv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76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ATI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76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GIC Secretari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76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PI:  a way of building on your existing efforts in a methodical, common sense 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2:15:45Z</dcterms:created>
  <dc:creator>Andrew Milne</dc:creator>
  <dc:description/>
  <dc:language>en-US</dc:language>
  <cp:lastModifiedBy>Owner</cp:lastModifiedBy>
  <cp:lastPrinted>2006-06-15T21:11:50Z</cp:lastPrinted>
  <dcterms:modified xsi:type="dcterms:W3CDTF">2014-02-03T14:51:52Z</dcterms:modified>
  <cp:revision>619</cp:revision>
  <dc:subject/>
  <dc:title>PowerPoint Presentation</dc:title>
</cp:coreProperties>
</file>